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5A9-1779-4C43-B765-A1A3EE1F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79F-BCCE-4F34-AE26-E318BA18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D44-D9FF-41F8-82FE-1C302902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770-5E61-4A62-9381-F9BA4D24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CB02-FEB4-482A-80CD-797F0604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8D9C-8DDA-4E3B-97FD-F1A7C36B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CA54-7C0B-4A49-B89C-E6612927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4597-98EF-4532-8C39-AAB6E23E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2F77-EC06-4407-B112-5B600B38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E0C1-919B-4692-A051-33AD4C82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632A-5477-458D-9E79-8034E425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D29-2353-4F8A-B66A-F80ECA25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D735-6522-448A-89BD-170463B3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FF04-915E-4F34-BA0E-77F29DF4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2591-4F9F-4BE2-A951-B3A20C0A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381A-C0E9-4C44-9C9C-D60D5E5A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1BA7-D23C-4CA1-9AB8-699D84A9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E10-FD67-4FE3-972C-F5C313F1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333-46F5-4F0F-9C50-FD8B73CF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1BF-9BD0-462D-8EA3-1C11C032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2B9-01D7-4FEC-8617-71DC397C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E4E-C39B-404D-A04C-BE074F22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BAD-A09A-4CD7-9EF6-2FE687C5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6BC-4608-4F3A-995C-F883EB15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EB0A-6016-4DE7-A346-C69760F934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ED7F-46D1-484E-8A10-5705F3E9A8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一章  经济全球化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主要内容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产生与发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特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发展趋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一、经济全球化的产生与发展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全球化的定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从资源配置角度的定义：资源配置的全球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从生产关系角度的定义：资本主义生产关系的全球普遍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全球化的发展历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中期以前的萌芽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中期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初的生长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两次世界大战期间以及战后的曲折发展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末而今的迅速扩展与深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经济全球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跨国公司作用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技术进步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国际机构驱动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矛盾演化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综合因素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世界政治环境的变化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科学技术突破性发展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跨国公司的全球战略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新自由主义的兴起（国际组织奉行“华盛顿共识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ashington Consensus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最早由当时任世界银行官员的经济学家约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威廉姆森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John Williamson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990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年提出。当时他提出这一“共识”基于拉美国家截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年代末经济改革的既有成败经验，提出“共识”的意图是把它作为拉美国家经济改革的指导思想。“华盛顿共识”出台之后，得到了世界银行和国际货币基金组织的支持。主要内容：税收改革（降低边际税率和扩大税基）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利率自由化，竞争性的汇率，贸易自由化，外国直接投资的流入自由化，私有化，放松管制（以消除进入或者退出障碍），保护产权。世界银行和国际货币基金组织等国际组织把“华盛顿共识”作为发展援助或者危机救援的 “前置条件”使用，推进经济自由化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经济全球化的特征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知识经济和新技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信息技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为基础的经济全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分工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垂直型、水平型）日益深化的经济全球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经济主体的多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家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公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银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市场体系的全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与国际间区域一体化和集团化并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国的核心竞争力发生变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知识和人力资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达国家在经济全球化过程中起着主导作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全球化背景下更加凸显国家和民族利益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四、经济全球化的影响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对发达国家的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积极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拓展市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促进贸易增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竞争推动技术创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消极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外部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资源与环境问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就业问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对发展中国家的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机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吸引外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引进外来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推动技术进步和产业调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增强企业竞争力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公司得以发展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贸易发展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不利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分工中的不利地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外部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展中国家的发展不平衡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主权受到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安全受到挑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五、经济全球化发展趋势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金融业在经济全球化中举足轻重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国际贸易进一步推动市场的一体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跨国公司推动着全球化的深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信息技术将彻底改变人类的生产与生活方式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经济风险全球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05:56:29Z</dcterms:created>
  <dc:creator>YPL</dc:creator>
  <dc:description/>
  <dc:language>en-US</dc:language>
  <cp:lastModifiedBy>Dell</cp:lastModifiedBy>
  <dcterms:modified xsi:type="dcterms:W3CDTF">2021-08-23T22:43:04Z</dcterms:modified>
  <cp:revision>15</cp:revision>
  <dc:subject/>
  <dc:title>第一章  经济全球化</dc:title>
</cp:coreProperties>
</file>